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6A3-0A61-4CC5-81B3-40F3F133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70-679A-4405-9018-D35A7328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D73-A42B-42F4-9AED-7492CF35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99B-8E80-412F-958E-8D246861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C89-3F46-463A-9968-1FEE3C07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C0D7-C7C8-4403-AA42-42E025F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B5E2-4360-4EBE-BF32-5CF13B7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44FF-8AEF-48A2-95A0-1D51F5CE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D0B6-60CE-4632-B206-D2AFDDC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56A-D630-403D-BEA9-052977C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4674-D689-4AB9-A952-8B68593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11E-AFC5-4715-9E4C-B2B4BF89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38F-B5FD-47C7-BA83-6B00BC7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3C41-7709-4DCA-A1DF-CE73C40D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E1F-0862-4133-9868-6F7D313A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CB5F-D476-4F8A-91FD-A0F81036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8A23-3485-4586-B62E-E9C76C84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6603-3752-428B-B776-448AA653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5214-8E6B-473A-AE8C-33564E57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E392-FDD3-4277-AA8C-4BE0F06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3FB7-7292-4ADC-B5C0-EAE4DF3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7A6C-F229-42FA-979B-F0F3E9F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DFE-C6E5-4CE8-A088-5161E9AB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10CE-1843-4375-9A97-E0D30A5F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B944-C069-4151-A3F7-672E08C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17F1-9141-4FA8-ABCF-F4DCDFA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8D5A-4F15-4C6E-B4E3-6696B42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67B5-4A75-420E-A594-5D1C3EB1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DCEF-21D8-4AD4-A41E-AC4EEEC4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4174-C668-41F4-AD68-83E60EA1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E4A2-E6A5-431C-A050-42D09399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D523-D81C-46F1-95E5-EF72EE8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5F58-008D-4E19-BDCC-B255F0C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7D8-5198-4FF6-B422-78D100F1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3D95-9137-4056-9E56-91BFEE7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96B9-1096-4B10-B92E-146C138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19BC-6EB3-47B2-80A2-A8B6C69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656C-5CC1-4251-BF3C-96B08292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E193-AAEA-4223-8DD9-DAA1ED7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81AC-ACA5-43E1-83C2-A7ECE782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10EE-C3F3-490F-8E82-48EC17B9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B619-CFC3-421A-996B-D8D2AFB9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D104-109C-4893-BA75-754A288D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0447B-A5F4-4BEB-9084-06785D97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316-8CF7-43CF-9F17-5ACBB96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6D715-AAAB-4EF8-AD49-E8335193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B6214-2E23-4685-841E-31AB16E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8A7AE-6BFD-4E1B-932F-81519E4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E387C-71F0-4470-A2D6-BAE2CB22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B6D1B-02EC-47E5-9208-17C6965E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19C00-903D-4AFF-8FF1-9C3D7D1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87BFE-D710-4791-ACD9-62A551C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F9B6C-F10F-4AED-A381-F6DF711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A9B6-D465-4B06-8385-687B808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EAA15-3B7B-41C9-95E3-007F8BD2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9CE-5F42-46A7-A004-5321F5A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9AA30-0016-46F9-8890-4CD7A1B8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D1FB8-12C1-4C37-A3BC-9189A768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A0E5-C404-4879-B751-0C186751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DD99-F069-465C-9083-798EE88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665C-95A1-401F-AD2B-891A1B20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30367-5E10-4C7A-B29B-15E8F97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2FEC-BE02-4406-8031-90EC45BD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CA71-8896-4FE2-8A56-FCBDB81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6CD1-FA73-43EC-8AD7-975674D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53ED-4949-43B3-97B4-EE3D2EB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855-A05D-446D-9222-2A20C96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BD9F-C2A5-4E47-8AA8-815EE6CA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243A-B04D-4AD4-9197-ABD36558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7272-E584-4E3F-8936-BB353162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F28-1343-431E-9BD3-20F15E9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A2D-6666-4A05-9128-4C583CE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2A55-F5AF-4DDB-A2AB-06C43258151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719-B29A-40E4-9FFC-C9F6334AA5B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410-B1BC-4D5C-8229-E1024757F9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DAE4-44B5-4E03-88C3-F3D4C09548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A46E-F376-42D2-BAE5-357F08D157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E89A-D5F7-4503-B331-7994C6CD4C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Russian cultur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By: Brianne D. and Daniel J. 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langu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1% speak Russian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% speak tartar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s are spoken less than 1%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909360" cy="9093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2767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912600" cy="911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912600" cy="90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6"/>
          <a:stretch/>
        </p:blipFill>
        <p:spPr>
          <a:xfrm>
            <a:off x="6019920" y="3962520"/>
            <a:ext cx="907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Daily life in Russ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family members are depended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olidays are celeb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ears eve is very fes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cer is liked in Rus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families only have 1 child because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get-togethers are enj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ears eve is celebrated like Christ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24382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93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2:03Z</dcterms:created>
  <dc:creator> </dc:creator>
  <dc:description/>
  <dc:language>en-US</dc:language>
  <cp:lastModifiedBy> </cp:lastModifiedBy>
  <dcterms:modified xsi:type="dcterms:W3CDTF">2010-12-20T15:11:20Z</dcterms:modified>
  <cp:revision>4</cp:revision>
  <dc:subject/>
  <dc:title>Russian culture</dc:title>
</cp:coreProperties>
</file>